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DCB70-DF47-4C4C-8104-FC9D44E98A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4EF93-0672-4FED-8676-2653335D7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4EA673-F9B0-43AD-B335-0104D6265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6E0B93-3DDF-46C8-8313-96C20AA84F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FFBE9C-AC25-4AEF-99E2-7C75EB2FB9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93F783-020D-43C5-AA7D-FB1678D109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5A0247-8530-4B80-8371-430A43DA76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29DA24-10A4-4338-9527-59670878CB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5D44B5-CC3B-4CE6-8DF6-EF698FDDB6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95E9D0-87CD-405D-AE1C-FFBF9A1A21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48C84A-75D2-4157-8DB8-1771A5174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0CFEB-2542-4675-9306-DF9BE9E1F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B62CF-B11B-4116-84C6-92C0544F9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75E76-2C33-41C9-994E-40DDDA8C3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0B15B7-FB74-4D6C-8EDE-7E1E43512E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B1BB17-CC13-4D63-8FB6-8725719487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25A5B7-8200-4540-AF7D-0272A8050B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F67321-5A39-44AA-8BB5-43E0D98D1F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A1C3AF-C81A-46BE-9059-C1C3228E29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62B4C5-CA90-4FC9-BFAC-F33EEB8449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7546CE-5E84-4D7A-99B6-C262807BE6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20F053-0327-48E2-A1AA-E04DFF1076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FDD9C-1D53-4C69-9C4A-CE2274745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72A451-9C27-415D-8B14-9020B8B74B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4909B0-5F94-473A-A71E-76C589270D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E1F06C-DF51-450E-848D-3B6DB7E688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032421-5DFC-49BB-8E60-46C712DF80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D563BF-472D-458A-9FDB-7AF20C917C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A8D951-4F1F-403F-8674-AE8BE18C6D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3613BB-EB50-419A-BE2F-97781A6BE6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B068AE-E5D6-499B-ABF6-4DD3793997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6564C0-130A-4A3C-B0C8-5E09B6D711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1ED494-07FB-46A0-8C1E-0780927B0B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71DA4-AC10-40DB-AFA0-2F5011289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EE9248-883A-4F14-ADCB-676EA7A050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DA943E-44B5-4553-854D-BE04BBC12D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9CEB18-BFB3-42B5-B974-418EE1CD2C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14EF9C-02AC-41C4-98B0-25DED97B19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10BCF7-90CB-4031-A402-F1C09F45FC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627AD0-F8AB-44F7-86F5-82E2032536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C442B3-B0B6-40BB-BF44-DA3396C388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C29CF8-AA9E-45EA-BB1A-B6DA0D1DE4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F93430-B6A9-44FE-B54B-8F999809ED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3A016-95C1-4A0F-9362-CD4F5E88B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949A9-AA9E-4146-9E85-F399EF5A4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5F229-7034-4130-AB94-6967F83EB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A8075-FCD7-4256-90F5-281E7F388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58AAF-1FBD-4DCF-AF6E-4BDB1EED11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B8979-F82E-4416-BB06-EC5A719FBE8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AC06B-29BE-495B-9230-FFBCEE855B9D}"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3BC1A-1BD8-40F5-B797-6052B9279195}"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23DA6-EFE6-44EC-B5FD-0ACE2E7E0D9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176040" y="268200"/>
            <a:ext cx="8596440" cy="5834160"/>
          </a:xfrm>
          <a:prstGeom prst="rect">
            <a:avLst/>
          </a:prstGeom>
          <a:ln w="0">
            <a:noFill/>
          </a:ln>
        </p:spPr>
      </p:pic>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en-US" sz="1800" spc="-1" strike="noStrike">
                <a:solidFill>
                  <a:srgbClr val="04617b"/>
                </a:solidFill>
                <a:latin typeface="Calibri"/>
              </a:rPr>
              <a:t>The barriers to instructional communication.</a:t>
            </a:r>
            <a:br>
              <a:rPr sz="1800"/>
            </a:br>
            <a:br>
              <a:rPr sz="4500"/>
            </a:br>
            <a:endParaRPr b="0" lang="en-US" sz="18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nstantia"/>
              </a:rPr>
              <a:t>Lack of Common Experience</a:t>
            </a:r>
            <a:endParaRPr b="0" lang="en-US" sz="1200" spc="-1" strike="noStrike">
              <a:solidFill>
                <a:srgbClr val="000000"/>
              </a:solidFill>
              <a:latin typeface="Constantia"/>
            </a:endParaRPr>
          </a:p>
          <a:p>
            <a:pPr marL="267120" indent="-267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nstantia"/>
              </a:rPr>
              <a:t>          </a:t>
            </a:r>
            <a:r>
              <a:rPr b="1" lang="en-US" sz="1200" spc="-1" strike="noStrike">
                <a:solidFill>
                  <a:srgbClr val="000000"/>
                </a:solidFill>
                <a:latin typeface="Constantia"/>
              </a:rPr>
              <a:t>Lack of common experience</a:t>
            </a:r>
            <a:r>
              <a:rPr b="0" lang="en-US" sz="1200" spc="-1" strike="noStrike">
                <a:solidFill>
                  <a:srgbClr val="000000"/>
                </a:solidFill>
                <a:latin typeface="Constantia"/>
              </a:rPr>
              <a:t> between instructor and student is probably the greatest single barrier to effective communication. Many people seem to believe that words transport meanings from speaker to listener in the same way that a truck carries bricks from one location to another. Words, however, rarely carry precisely the same meaning from the mind of the instructor to the mind of the student. In fact, words, in themselves, do not transfer meanings at all. Whether spoken or written, they are merely stimuli used to arouse a response in the student. The student's past experience with the words and the things to which they refer determines how the student responds to what the instructor says. A communicator's words cannot communicate the desired meaning to another person unless the listener or reader has had some experience with the objects or concepts to which these words refer. Since it is the students' experience that forms vocabulary, it is also essential that instructors speak the same language as the students. If the instructor's terminology is necessary to convey the idea, some time needs to be spent making certain the students understand that terminology.  E.g. tree while others write three.</a:t>
            </a:r>
            <a:endParaRPr b="0" lang="en-US" sz="1200" spc="-1" strike="noStrike">
              <a:solidFill>
                <a:srgbClr val="000000"/>
              </a:solidFill>
              <a:latin typeface="Constantia"/>
            </a:endParaRPr>
          </a:p>
          <a:p>
            <a:pPr marL="267120" indent="-26712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nstantia"/>
              </a:rPr>
              <a:t>Confusion Between the Symbol and the Symbolized Object</a:t>
            </a:r>
            <a:endParaRPr b="0" lang="en-US" sz="1200" spc="-1" strike="noStrike">
              <a:solidFill>
                <a:srgbClr val="000000"/>
              </a:solidFill>
              <a:latin typeface="Constantia"/>
            </a:endParaRPr>
          </a:p>
          <a:p>
            <a:pPr marL="267120" indent="-267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r>
              <a:rPr b="0" lang="en-US" sz="1200" spc="-1" strike="noStrike">
                <a:solidFill>
                  <a:srgbClr val="000000"/>
                </a:solidFill>
                <a:latin typeface="Constantia"/>
              </a:rPr>
              <a:t>Languages abound with words that mean different things to different people. </a:t>
            </a:r>
            <a:r>
              <a:rPr b="1" lang="en-US" sz="1200" spc="-1" strike="noStrike">
                <a:solidFill>
                  <a:srgbClr val="000000"/>
                </a:solidFill>
                <a:latin typeface="Constantia"/>
              </a:rPr>
              <a:t>Confusion between the symbol and the symbolized object</a:t>
            </a:r>
            <a:r>
              <a:rPr b="0" lang="en-US" sz="1200" spc="-1" strike="noStrike">
                <a:solidFill>
                  <a:srgbClr val="000000"/>
                </a:solidFill>
                <a:latin typeface="Constantia"/>
              </a:rPr>
              <a:t> results when a word is confused with what it is meant to represent. Although it is obvious that words and the connotations they carry can be different, people sometimes fail to make the distinction. An aviation maintenance technician (AMT) might be introduced as a mechanic. To many people, the term mechanic conjures up images of a person laboring over an automobile. Being referred to as an aircraft mechanic might be an improvement in some people's minds, but neither really portrays the training and skill of the trained AMT. Words and symbols do not always represent the same thing to every person. To communicate effectively, speakers and writers should be aware of these differences. Words and symbols can then be carefully chosen to represent exactly what the speaker or writer intends. </a:t>
            </a:r>
            <a:endParaRPr b="0" lang="en-US" sz="1200" spc="-1" strike="noStrike">
              <a:solidFill>
                <a:srgbClr val="000000"/>
              </a:solidFill>
              <a:latin typeface="Constantia"/>
            </a:endParaRPr>
          </a:p>
          <a:p>
            <a:pPr marL="267120" indent="-26712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67120" indent="-26712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Title 1" descr=""/>
          <p:cNvPicPr/>
          <p:nvPr/>
        </p:nvPicPr>
        <p:blipFill>
          <a:blip r:embed="rId1"/>
          <a:stretch/>
        </p:blipFill>
        <p:spPr>
          <a:xfrm>
            <a:off x="347760" y="268200"/>
            <a:ext cx="8478720" cy="621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Title 1" descr=""/>
          <p:cNvPicPr/>
          <p:nvPr/>
        </p:nvPicPr>
        <p:blipFill>
          <a:blip r:embed="rId1"/>
          <a:stretch/>
        </p:blipFill>
        <p:spPr>
          <a:xfrm>
            <a:off x="255600" y="268200"/>
            <a:ext cx="8547120" cy="5608800"/>
          </a:xfrm>
          <a:prstGeom prst="rect">
            <a:avLst/>
          </a:prstGeom>
          <a:ln w="0">
            <a:noFill/>
          </a:ln>
        </p:spPr>
      </p:pic>
    </p:spTree>
  </p:cSld>
  <p:transition>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itle 1" descr=""/>
          <p:cNvPicPr/>
          <p:nvPr/>
        </p:nvPicPr>
        <p:blipFill>
          <a:blip r:embed="rId1"/>
          <a:stretch/>
        </p:blipFill>
        <p:spPr>
          <a:xfrm>
            <a:off x="73080" y="268200"/>
            <a:ext cx="8699400" cy="5986440"/>
          </a:xfrm>
          <a:prstGeom prst="rect">
            <a:avLst/>
          </a:prstGeom>
          <a:ln w="0">
            <a:noFill/>
          </a:ln>
        </p:spPr>
      </p:pic>
    </p:spTree>
  </p:cSld>
  <p:transition>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328680" y="268200"/>
            <a:ext cx="8450280" cy="6443640"/>
          </a:xfrm>
          <a:prstGeom prst="rect">
            <a:avLst/>
          </a:prstGeom>
          <a:ln w="0">
            <a:noFill/>
          </a:ln>
        </p:spPr>
      </p:pic>
    </p:spTree>
  </p:cSld>
  <p:transition>
    <p:pull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Title 1" descr=""/>
          <p:cNvPicPr/>
          <p:nvPr/>
        </p:nvPicPr>
        <p:blipFill>
          <a:blip r:embed="rId1"/>
          <a:stretch/>
        </p:blipFill>
        <p:spPr>
          <a:xfrm>
            <a:off x="396720" y="268200"/>
            <a:ext cx="8704440" cy="6066000"/>
          </a:xfrm>
          <a:prstGeom prst="rect">
            <a:avLst/>
          </a:prstGeom>
          <a:ln w="0">
            <a:noFill/>
          </a:ln>
        </p:spPr>
      </p:pic>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Title 1" descr=""/>
          <p:cNvPicPr/>
          <p:nvPr/>
        </p:nvPicPr>
        <p:blipFill>
          <a:blip r:embed="rId1"/>
          <a:stretch/>
        </p:blipFill>
        <p:spPr>
          <a:xfrm>
            <a:off x="347760" y="268200"/>
            <a:ext cx="8345520" cy="5986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Title 1" descr=""/>
          <p:cNvPicPr/>
          <p:nvPr/>
        </p:nvPicPr>
        <p:blipFill>
          <a:blip r:embed="rId1"/>
          <a:stretch/>
        </p:blipFill>
        <p:spPr>
          <a:xfrm>
            <a:off x="328680" y="268200"/>
            <a:ext cx="8364600" cy="621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7" descr=""/>
          <p:cNvPicPr/>
          <p:nvPr/>
        </p:nvPicPr>
        <p:blipFill>
          <a:blip r:embed="rId1"/>
          <a:stretch/>
        </p:blipFill>
        <p:spPr>
          <a:xfrm>
            <a:off x="237960" y="268200"/>
            <a:ext cx="8541000" cy="6139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Title 1" descr=""/>
          <p:cNvPicPr/>
          <p:nvPr/>
        </p:nvPicPr>
        <p:blipFill>
          <a:blip r:embed="rId1"/>
          <a:stretch/>
        </p:blipFill>
        <p:spPr>
          <a:xfrm>
            <a:off x="347760" y="268200"/>
            <a:ext cx="8345520" cy="606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5T07:31:59Z</dcterms:created>
  <dc:creator>WAGOCO CHEGE</dc:creator>
  <dc:description/>
  <dc:language>en-US</dc:language>
  <cp:lastModifiedBy>rekoz</cp:lastModifiedBy>
  <dcterms:modified xsi:type="dcterms:W3CDTF">2012-02-02T11:01:04Z</dcterms:modified>
  <cp:revision>37</cp:revision>
  <dc:subject/>
  <dc:title>five elements of communication according to the Shannon Weaver Model</dc:title>
</cp:coreProperties>
</file>